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  <p:sldId id="273" r:id="rId57"/>
    <p:sldId id="274" r:id="rId58"/>
    <p:sldId id="275" r:id="rId59"/>
    <p:sldId id="276" r:id="rId6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slide" Target="slides/slide18.xml"/><Relationship Id="rId58" Type="http://schemas.openxmlformats.org/officeDocument/2006/relationships/slide" Target="slides/slide19.xml"/><Relationship Id="rId59" Type="http://schemas.openxmlformats.org/officeDocument/2006/relationships/slide" Target="slides/slide20.xml"/><Relationship Id="rId60" Type="http://schemas.openxmlformats.org/officeDocument/2006/relationships/slide" Target="slides/slide21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E57A-6E73-4120-8140-39A96680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8081-419A-485F-ADA1-EA21A07F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F4F5A-4B30-43F7-864C-AE816D8C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F37C7-D936-4FCE-B79C-E7C0B07A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A1C1D-31C8-4C2D-8A03-0196C9DB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86AF4-4A32-4D97-9E1F-C3E272BE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4F8FF-FA63-49C8-BE3D-390D1340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9DE61-C50C-4E2F-B06C-438FDDEA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4C932-F4CE-4203-BC0D-039D9944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12163-E99B-4156-8E62-0F2857C4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E9FE1-5A77-4292-9D82-1F4C57BB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27967-FC14-440F-9E43-531ED03B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A2F5-55CF-4A73-B97B-F66B435D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03D65-B988-49D5-A521-BE7429F2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B4E46-C17C-4E59-8083-610756EA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B6F02-CBB2-43EA-AB52-C7305E1B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0C89D-0022-429B-B9AF-969428D5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E0B39-C90C-40B6-B9F8-C00C3932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D7991-32A9-4676-B8CC-DD544865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9B2A9-C891-4FA7-9106-F40A70EE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355DD-A1A4-4EB6-90E5-8F6AD25D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15A5C-11B6-4A36-B1C6-3C4BB6EA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69D1D-AE66-4FC2-9FEF-A0FED564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04C1-BCF9-4767-BEE7-929B6554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7CB61-EBA7-4639-884B-81FEC942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214E1-D25F-4EDB-BF87-12994156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BFEC8-F78C-4640-8312-40D78058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224EC-98BD-4125-90B8-0351F1DF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DD6AF-2975-4DA3-850F-23EEAA73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5DB5B-3095-494B-B282-AA7D0BB8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CDFC2-43D5-4881-946C-D1CC6A97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E8097-BF31-48AD-BEEC-0539598A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2D1DE-70E7-473C-B2D5-46E60B59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D778E-68DA-4F16-B3D7-A5451499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B552-0D29-42BD-9DC1-7C345C5C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201D7-5133-43EE-995C-03CDCD71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A79F5-1605-41EF-96CB-A11D7CD3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BC3E0-48C0-4EEF-8CBB-01DBA748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5C485-549A-4433-9D97-5E48F31F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D0E91-37A2-4AFB-9086-B60D0F49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02381-B6B1-455E-892F-541D3329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D5C50-EBD2-41D1-B962-90B31E33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5DB2F-86A3-4F07-8EEA-A6115264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5465E-3320-48D8-9C7A-9BECC232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A37CD-D895-450A-A9A4-ED112F4C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616D-A1DF-4F43-B0A9-6A6AFE30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D3F11-E66F-4779-B5CA-EF4F104A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84D96-DEBD-47A5-B823-196023D6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E6FF8-5D3F-4F54-8CF8-84074CC6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3256E-FF19-454D-B137-749CFE64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B8D13-BF75-483F-B0AD-2187435D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BD0AF0-62B4-4684-82BB-94A30BA3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3D0B69-2657-45BD-900A-2A59548E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F74E18-E212-496A-BEA8-D90D3417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C40DE-2F46-43BA-BDEF-E6E401D4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782598-4836-4ACB-8604-4715E313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32BA-994C-46CC-ACA0-B3CC4A7B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CC2DD-F521-408F-B204-51ECA516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4BAB9C-AF6B-468F-9772-AACF6BED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FDB26-5507-4DEB-8717-DFC09CE7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3BF48F-3EAC-4E8C-9855-6344C34C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A935BB-F1D4-4313-9134-94192674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62226-ACEB-4EAF-8ACC-9CE73DD7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00435-E760-401C-B890-84D5FFF0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D0D949-B202-4736-8A07-84F4F8D9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F9148A-3FEC-404E-A9E8-5697E932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65DFEF-C1E7-4C21-B512-769FC9D0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DB22-FDC7-4894-905F-8CD0C4CA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87427A-9776-48AB-BE50-E989463F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ED9CD9-0B03-4679-BE31-3FA73EC0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3CBBF5-7635-4B20-A903-66FB8636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04B326-92C0-4F6B-8F6D-351B6BF8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2D5B1F-316E-4693-A151-DE867FEB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70900C-2FB5-4D87-BF92-FF628499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A7660E-05E5-4B52-85C9-813179E0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CC5393-73FC-4246-A2D3-14EDD565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54D337-5020-468F-A8B1-6D269527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828BCD-237E-4CB1-9C09-CB40798C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78B2-764F-457D-8479-EFA62B0A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A2C3D1-DBDE-49EF-9EEE-B7860E04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CBDBFC-96F2-4206-899E-988095A1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55B84A-F9F2-48CA-A04C-B523D15D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FC48E5-A8D6-48CB-BE54-51B2DD0C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19EF88-2211-4611-9A81-0E87328E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EFFA82-D37B-43A8-AD6A-925FD8D1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959E62-143E-4D6E-842F-CDCEE69D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623E20-5CA9-40F3-AEC2-8EF7EF2B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944A11-3883-4E99-B6C7-C0B39E90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E789B5-F054-4D4D-9902-E34E6F96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8ADA-89BE-495E-B2D0-555DF173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9C8038-A35A-4671-B19B-A9876934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57A85-F3ED-4747-AD6A-D131A59A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26472A-A4ED-4EC6-B99F-BC439B2D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651B84-4676-4A78-A691-9AF1786E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1E82BE-19EB-41DD-B9E7-83F42320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8BEA87-4C0E-4ACD-8249-7FA72684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E812C7-89D8-46A3-8365-D09D120F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11C4C6-EC83-44E5-BBA6-5F879A82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1B39E2-463D-4270-B09D-D3BF7798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991A80-9E2E-4416-B463-9E2E8CA5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F40C-04F3-4810-8E6F-3450DCA6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B52523-E6BB-4612-904B-84E7FFFA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839965-4753-410E-A257-7B625369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691223-279A-4012-BC2C-E6ADC357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E0E039-FDAA-47F4-B8F5-8B7998EB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9EE1E4-1335-44B8-94F6-22E0F1C9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C1A6A3-E111-43B4-8207-B0020AF6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BEA9D8-67C6-4358-8798-710BF44D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A67BA4-6B65-436D-90A2-DA835EA6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0047FB-B1A1-4877-BFA1-2B26D175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D8690F-16FD-4AF4-A194-498D5F00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55C2-7DBD-48C6-9136-D8885845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A3A9-DF09-41AA-AD14-F1E0F2FE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21A5FE-60B8-49ED-B558-8909A154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2EBED1-89EA-4A47-B9EE-85E071F0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5222FA-7247-46FE-BE76-AA0FA2C8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D6B306-365C-48A3-9157-DD76047B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AF785F-A263-4480-BD54-4FDA19DF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9EA218-265E-4647-9B62-0393295E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AE1245-94F7-44EF-A93A-3332D56F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24EA13-E131-478C-AEC0-20B149E0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6574E8-DB38-4038-A415-60FA7207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036246-6F31-4EC5-A12F-1A534003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3C1F-7E09-4A92-948C-B875CA35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7F54CD-6290-4E12-AA03-0DDC77FA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922448-9397-4C75-B8B0-0551C965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1AFFE8-964A-4176-8618-96E0DA77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C0B9E0-25EB-4679-AFDD-9924C867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2BA027-5996-4BC0-8D3C-ADEA718D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153188-500E-4F02-9AB1-A4686AFF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43D881-0C05-4695-95E0-E08BC2A3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F60DA4-3951-4235-87AC-F8BE1081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E3BAC1-336A-4830-9887-B4BE3A1D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E55BAD-37AE-41FA-84EE-207454C1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B661-B967-47DB-8EFD-DA18E6CF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D60EED-A210-4CBC-8F49-23880C0F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B48351-A20E-4396-A504-291FBDA6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807D07-27C4-4200-A820-EA82524B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DFFB98-9454-4E53-AE00-8B1DC855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A6B11F-F734-4B39-8CCA-12DD563F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0E5407-90D2-4EE6-9CCF-0A806DDB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8266CD-0CB7-43ED-999D-E1F1047A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320E6F-B3E6-4016-9DDD-6F0B6C89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9C272C-E606-41AE-A1C0-4C4C3A4F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7C8019-8191-4137-9D83-E308E515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1FA8-E5F7-41B8-82F3-E903B4BC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B7CAC3-2E58-4441-BA14-4825B42F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81407A-ED17-4DCF-94D7-A9929550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DD840C-F64D-4AB7-977C-33EB68B8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A0A858-B22A-4D1F-8AA8-1E24CCAE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545AC6-C8FC-4A03-8219-2A26164D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F78A21-9B70-4ECE-BEF7-D1AA6C81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32F42F-48BB-42EE-83C3-A4384B33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AB842A-BE90-4799-8708-EF304AC1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861CDD-42A1-4C11-92C6-02C9C500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645A14-504E-4D79-85EE-76177E8E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F8CF-FC66-4388-BB72-23B18B2E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441184-74FB-4BF8-9657-5DAEE84C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5EAC11-3731-409A-A56B-2D77487F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A9CE4D-E695-45EF-B79F-A43220F4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B1C016-C88B-48AB-971E-A1EABEAC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3727CD-41DE-4F59-8F73-90B7BB70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4962A1-8D76-4B5A-A82B-86C84453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726A28-4F5A-41BE-AE77-CF5F6D25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CDF667-09E6-41DA-B37C-91097023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83367A-E72B-478A-90B3-3FB3383D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A108BB-7779-43C9-8806-F03C64A6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13E4C-6C7C-48DB-9300-BA770C76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3E5C39-3DF3-43FF-95B8-133157CB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1E996C-66F6-4B46-8F21-1545A4CE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09181A-2947-42AF-8817-4FBCA87B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487F8D-7978-4002-80E9-79BE1536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33A160-E260-4026-A0B4-FE0EBC47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B65353-0ADD-476D-B298-976E3C40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0009F2-4117-412C-8B12-EFA16224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DAD064-F3C3-4B15-989E-44B1D1A9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31A794-E43A-4178-8B88-3CA33146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CCA470-B9AB-4657-A300-D3E81984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1CA6B-F344-4315-80C3-02E5E540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8BAA88-70A1-4919-98ED-5BD21355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7153E7-387B-4D48-8D9C-C98066C9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6CCD22-F1C7-404F-8D9C-B9C29215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3FC05D-8052-4330-A47F-923E0102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17C0A5-234D-43D6-A0A7-78690CB7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1821EF-CE40-49EB-A4C3-92C8271A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1E4C5A-ABAA-4156-A697-39A42C92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B07C94-C9E3-4DEC-A2B1-C3501433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FF97CD-226C-4436-B05F-899AEDD5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436442-7F4D-4609-9114-3017E8BA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EDED0-D888-4274-BBC2-10B82497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049C93-8876-4735-AE06-BC01B233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02BC8A-76C7-435F-899E-38181FE3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7894E4-7871-4DDA-BBD6-E00D3D6A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4751EC-3E7C-4D2A-85E6-816E8658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B2D393-4BF3-45AA-A5D8-D2970BC1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1A3F92-66D2-4D2C-906D-6D1A01A1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5B10EB-9626-4FC9-9FFD-95E01DBD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1C3B83-0278-42E8-8BE4-05A240C6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4B6070-3E1A-4587-9058-F36C08E2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E2A4BE-AF93-42A1-8361-EB63843A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65DF1-0364-40BA-AB1E-5C7195A9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EF1F1E-8610-42F0-B6D0-1EE47B11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402CCF-A8A8-412D-83AB-7318182C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FB82E2-6298-4037-9661-A6D5BD01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3835A5-7A07-4EEA-829C-CB0EDEA4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F4A35E-AA04-4348-A0A7-E73DA729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4129A1-833F-4EED-AD80-A1098146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7A3DBA-05DA-417B-B058-B11D5E10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AB8E22-045F-4C76-8B76-EE7846C3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D6EE2A-CD97-4D26-BF0D-B35D5091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041B5F-E474-4630-9E3E-C3B128E0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D94C6-BBDA-4E30-956D-DE046E00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F6B6A8-694B-489D-8BF7-AB82D543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F4921B-E269-4C48-AE70-356A324D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B55A4F-8B13-4DA5-AB68-6127248E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B5FE55-BCAF-427C-9301-2ABBACB3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94B0B5-8F89-43E6-BCB5-6F3CE656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6D2B63-A362-492A-A129-80D2FC1C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A9B971-7BBC-4702-913E-53BB524B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BD5E58-FA41-42FF-841D-44A85882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DADAF8-D521-40D8-8D3A-02B27B89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F0AFE7-70F8-4B9C-A3F1-9C4256E9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4FF4-DD14-4CE2-9FE4-40DEA886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B452A-F5A0-42E2-890E-A7C0C1FF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2DBD67-1A4D-4267-A786-C9048389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D5712A-E6D0-4529-A83A-C7CB2CAA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290B70-0C60-4D3D-921E-19ECA6B4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A0173C-3DD9-4A9A-97E3-AAE77CBB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8731EB-97F5-4C8E-A17B-A55A5E86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921529-0C58-4CB7-A317-98A2B39B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66EF79-B0DD-4A02-9BCE-9C5A94F1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72797D-4B3F-4783-B9A7-B6D278AF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3DA86B-48BC-4869-94DC-07D44405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4AC8D1-2932-43ED-95FB-D00CDBDC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FDF0D-4703-4559-8C9C-FB0BFDF2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837B14-53CB-4890-BBBD-5AA214AC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B3560D-B6AB-46FC-9773-FD08567D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259240-D3C6-4D3A-B8A5-A34C7F65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A0A47D-B2CF-43D5-809E-6F8DE9CA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2FDF6E-DE7E-4A46-8D38-8F14CA6B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2C6325-E72E-4D89-A1A8-FE464605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E27755-A72B-4E40-B0A4-3EA9CEEF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36831D-8252-4E77-A09D-EE9B1710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243E2E-9A7E-4E5B-AA3F-98B5E101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66A35C-F931-4072-8740-F30B117D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EEB75-8C01-44C7-9614-E697BF2B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0EFF7E-340D-49A6-9A87-5979977E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C62B80-C44C-46FA-A9C3-D5B275B8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4A53A7-64AE-436E-B74E-4EF1A1D2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BAC9B4-8B6B-42E3-A783-A601C57B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CF9017-5BC1-4848-AECF-5C2A0463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77DD68-DF4C-4172-9B7E-79DD6A85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DDB9A9-30DA-4B2B-A857-49E171BF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20A4DF-5D3C-4B21-8133-FE78BE5F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EE77D9-5C0E-4295-8A0A-7B8F54C8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8AF693-2D54-4896-9387-749B1881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F6578-B9AD-4BC4-B8F3-DE8E621B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3E7569-476A-489D-ABB7-B533E91F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264290-3A55-455D-927F-F4D5F14D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5CED47-85B0-450A-A8DD-0A18A436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A10294-2F19-4AF5-846B-3300A0CF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838C10-A9C1-467E-AD06-D7C996E7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C33913-C9DE-4E5F-81A5-2B6F022D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DEC56E-9641-4922-89D0-67FA76FA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96FA9C-FEFA-4B3C-98F3-161082EC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DF0855-492B-453E-AB84-D2858596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ECB77C-A68A-4C6F-AB18-7ADED918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7D552-7A07-4BD1-98AA-69023AF2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82DE0A-9DD8-4CA8-94D5-89F68A25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9EA18D-D510-49CC-85B1-804A030D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3FDBB6-EFAA-4F7C-8086-960F74A0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DFBDF8-C2B4-480A-B624-66385939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0DEBCD-15E3-43FF-93B7-A36FCCDE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E6FBBB-8758-462B-B3EA-BC61F97A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D9558D-F929-428E-B361-799D97E8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A9A550-E790-4983-B4AE-6682A6B5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6A3728-C254-4A77-A758-2453FF91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415DC2-44D6-4AE4-8E3F-DD34440B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DB0A5-E175-4ECA-8C61-6B385499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B47AD8-CCFB-4D30-957F-366826C4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EDF3C4-FB7B-46F0-B95C-B2323D7D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D5AE53-B20F-4CD2-901C-06C7122A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B82D62-8210-439A-89D5-A2F91312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314B5B-F7F0-4ED2-8AF2-212D228A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9F0335-689F-4CD7-9BE2-3024B0BD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EF8C12-C0C0-41AA-A45A-B6241B4F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6D74E0-5A80-46DF-A42C-E805DCE1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58C604-B21A-498A-9017-A84E4B19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344FBA-A577-40F8-A1F6-118533A8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3031A-4242-4A15-B42C-92D65804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C012BC-5717-416D-B7C9-DBC84F45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A9CF2A-0ECA-49E7-8B3D-421E3294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0C1597-4DA3-4970-8611-5B7C20F8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110C2A-9C9A-48E0-8C4F-3AB6110F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561CE13-EF36-4C6D-BD00-88407580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BCBAA6-0AB5-4A70-9F64-B2FBE27F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4AB077-92AE-480D-A12A-FE47518A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B395A1-E1DA-4A53-B7E3-2E963E3F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931923-ADBF-4B34-82C3-FCE58478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612BAF-2319-4C96-9A01-73D11151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9D4F6-766C-43C1-B4A8-50E5A8A2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1F68B5-BE59-416F-9893-A0E3030E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ACD2B8-B76F-4568-AAAC-E8609CFF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8906DE-C4C0-49AC-BBF6-CDAAD1BF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3DD712D-8C41-405B-B3BE-CF0DA7FC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A55DC0-66FB-4654-9C03-C00EE0E9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737329-2B2B-4BC9-870B-65CA91DB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0CF079A-45A4-4784-8215-02F5FE4B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AB442A8-02AC-40E1-97AD-1BCA5FAB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BAC652C-8550-4069-96E4-D282BD1F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59C73A8-3CDD-47E9-9FE9-A965082B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37AF6-736B-41CE-80F7-4B074C38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DE0AF0-00D4-4A35-9D01-ED7DA2C6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6D67F76-0AD6-48CA-9D46-E2988079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2F5C4F-BFC7-4E04-9598-916925E3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86C3CAF-3FE3-450E-A182-E03EE9BC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5CC9D6-37A6-4918-B1C9-DEC9A558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F583D65-AFD4-4A87-AB6B-0770E363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7812450-49E4-41ED-8CC6-45425253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9081A03-4DA4-4293-BB0F-A2442B41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E7FFB5C-8779-42AF-BB6F-ED86603F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620B99E-ACD8-4F7C-8767-53227FC0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0A52C-933C-4FA2-90E1-17B61C89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E93AEB-C293-4E0B-877E-79896789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DD162E2-1CC0-4EBC-8EBF-1FF7D682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ABE93CD-74BF-4D1A-9FA1-F24C8377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E6D4241-F46C-42EC-9BBC-6FFAF811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1D86573-DC27-4CAC-BB9F-18CFCCFC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3AD96E-9530-4790-9F8E-3EAA453B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8B5791-110E-48A0-A4E0-991A2828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F3533B2-E623-42BB-B56D-815571BA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8BB39D7-B504-4B26-9358-CD52EA2A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DEFDF6A-2BC9-401A-9D5A-9872ABB1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C9FD-10A9-4D26-A2CA-5F8C20E4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351FF-E810-4AD1-BF67-780A0349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C6EC314-240F-4E70-A8D4-79FE0209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64548F8-CBE3-4B44-98C7-2C3309BD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70F2B56-7DFC-4C91-A4F4-E0A130C8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6040408-93CA-40A6-B3E9-68B330E6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F5B28E0-DD77-42FB-9242-E8AA9CF9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482677D-90E2-4082-898B-430A45A7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6C95F5-D8BC-4644-B3B9-388E2B66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CA8BC70-A05C-4C4A-B2B9-9DFD9354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8622E47-0FF3-4E58-A872-F1FE68C9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0F7FCF2-26B0-4C76-BAEC-524DFF45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7745E-D91F-4C45-9EDB-6A30D2C6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A0FEE73-746C-4879-B9D2-4E2F7B1B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A3BC5F5-7F1F-46CF-87C4-DA5A8157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5BE8CF1-B683-4BA3-A1FB-25575E0B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6434EA2-BBF2-4395-9531-7AD5928B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99E0328-26AE-460D-8316-1A4929C0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649A371-EADF-43F7-955F-8D5E3F6B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495285-A36E-4D52-AA40-73CECB68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5A768B1-BB0F-46BB-A859-9A00D42D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A4FF02D-DA1F-429F-9469-8F028794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C5F3A15-B3B8-4E7A-94B8-8674352B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E63F9-C3F5-4C79-A403-EE5FB437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B733BA5-193F-47E9-ACC5-442A1214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32013A5-AC7C-466D-8638-0E2D9E4D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9547FC3-3B62-4B3E-9A89-9B2780D8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D2B284F-E10F-4E91-951D-A7EFBBA9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597A447-4F11-4CF1-A396-D8B0598F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A7C0882-BA5E-4A62-8ED2-37652767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2E31E4B-2D34-4A46-95BC-15915B61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7D9E056-4900-4D2D-A54E-88622EFC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E5B1E8-7094-448F-B7AB-AC1DC891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9FAF3F3-8003-4A3E-9B5D-D5E7F964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99D7F-8AAB-4E27-BFC9-89FFF422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A6BA3E4-21F2-4400-B4B4-33FE2EC0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E8AAF78-639A-4329-8408-20CFC61E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1DA5C03-2012-447B-BDA5-E37EF750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D1B9CF0-735D-4A73-A7F1-518BBB47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904A0DB-CB61-4B99-AB32-751DB326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870E16D-A155-4D06-9A5D-6E721AA2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39BDA13-6F24-468A-855E-BC473EE4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AFC66C4-DC25-4C12-9BB5-67097770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A45CA12-AFF4-423D-A25B-D01B099A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68AD39C-C2D0-4145-B8D2-16FADE97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3F130-D8B9-4EFB-8BF7-8A7F7CE2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66FE737-C437-44D3-A72E-55DF62D3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189AADA-5EC5-476C-AF81-DA9B54D4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3172275-422B-4423-A67D-A57D6EC1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D65DC9A-BF7F-46CB-B9FA-99B25F1A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458064C-1F34-448F-AFEA-EB8B3DF4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73BB473-A7A5-42F1-819C-FEDD21FC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E19C8D0-ABBA-465A-AA6B-5149B53E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8EFF028-77A7-4DB4-8329-3A3690EB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763AF6A-D260-4D2B-BFC7-A6D98759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D750B64-E6BA-4915-8EF5-EB69FD3D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6A119-1E2D-471E-9E4A-97B24F0E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D16D066-7C87-4B24-93B7-3AFDA9D0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AB28701-6B09-4BA4-99E5-DB2ABC5C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0E5500F-4A43-408C-B764-885E9A61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476E141-B18C-42D3-A89A-16A01A97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4BA948D-AC4A-4402-B1C8-AB58BC45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A2FBEEC-8D53-4262-B524-8F683EB0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BD13543-AC8A-4BEF-A1E7-02C5B189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566C6-B9F0-4BFA-B822-92C1298C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8C305-9D5B-40B3-B09F-1C6914C6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2221F-77D0-442B-999B-46843581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FAF4C-14BF-47AA-A125-FC7F5A70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237E-E949-4606-B9EA-FD3BC1DA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B0582-B173-45B4-ABB6-045C3B30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0DA96-47D4-46E8-B012-B637F6BA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52C3C-EED0-4696-83AA-2E166B20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9D88C-C6E6-4358-A5B2-D83532D0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D0FB7-B776-4068-8665-4354266B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8116B-2387-403C-8919-AE36011A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B8891-7C08-41B1-A4A2-F68E8638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E69C9-8638-44FF-B2CE-C94120C7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72E56-D2CF-43D1-95AC-BE0E8A2F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E9EEA-DDA3-4C87-B1DF-FEFDE543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7792-3941-4B20-9A71-2C3D06DB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D6A1C-86EF-4E0A-B24B-2C4500D4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C9902-FC52-4B16-8A13-F0937362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9A42B-0BD4-41C5-BDE1-DD537AC6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0D450-CABD-411C-9F03-3878C8EB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A8CCB-BC0D-43B4-A2BE-1ADE804F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62123-AD70-4349-8A1B-EDC8A4E0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A3725-BC55-4E8B-9397-AAF54651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F8A4B-3858-4460-BA69-F20FBA66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B1D10-38BE-4F3C-9623-7E9E7D54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7EEC4-6A17-4974-A661-E8354D61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94F4-9B21-407F-B8B5-3B317E46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076EF-D075-454E-A426-4380FA17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4A972-94EA-46EF-A648-E0560D96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E1103-4810-45C1-AF24-2C2E07DD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0C742-6B7F-4457-AADA-911193CD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26176-E0A6-4BD7-A846-EDC81157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4C959-1791-4B3D-A503-FBB97D4C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17009-5DA2-46BC-A2B0-1DFFFE8C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7CB87-F800-46F1-9B8D-E71BA8DE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D6582-7F4D-47D1-BE88-EBB8BE3D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3A254-3BD6-4A4A-9EB4-1E720FA4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7FB-500B-46D3-9258-38C9D419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97DE4-94ED-433D-A155-7CC7D483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077B5-C947-4BFC-93C3-3181CE00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06813-8B5B-467C-996F-750E6AAF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16E6E-8B22-4292-BA0E-FF9D2BC0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513CF-E4F9-4C06-AA1B-F561559E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E7561-6454-43C7-B864-25D73448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73449-C7C5-462E-B75E-35BA7DF3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F7131-C8B6-48A8-920A-74A60DBA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ED7FF-90D7-4614-9B4D-DB0EE9AF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879FD-782B-4AB4-B3FB-55DA9BC6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5B4F-203F-468A-9198-599DE0E9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79AA8-C38A-4AB1-9660-77AAD04A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5DE1A-16BF-41E6-8D7C-DC49669C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26F8A-D07A-4D9E-A704-28D5621E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8CD64-9F5B-4BF5-97A6-0C48869C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ECD71-7052-4D29-9D69-E992D049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4CE3E-85D7-4DC5-89FD-B482F2F1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1DE66-B2FA-4CF9-941E-EE068D7E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3C79C-457B-49D3-97F8-C712E01A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A7EFE-10D0-435E-A124-6320216D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1E3AF-A85D-4679-B535-1BE47F3A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4266-BC28-4157-B2B9-AB21A9956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1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A5FC-7AFA-49E1-A641-0EFF6FE907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6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CD58-B65D-4445-9494-AEB35FE66B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0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D0FE-1DFC-465E-BC88-2F4770DDED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5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3E44-7EC8-47B2-838D-274403E52A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9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DEBF-2E37-4E63-9F6A-7066AB840F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64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51FB-94C3-4AC7-BB16-9B054DE89D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68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FD7A-8728-4E79-8506-D2A52649B9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731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3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4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49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50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B35C-426F-4A30-9D0E-F3031B2D4D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77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A3D8-9CDF-450D-901B-D78F8B1F8E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2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DCA0-C8D9-4617-8B97-6B98F0A05D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EA1C-BE58-448A-A353-139810BBA9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6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DE4F-E1B9-4297-9115-B461761A2B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1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A811-30FC-4DBB-AB14-4F4D0A166C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5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B37A-94AC-4507-8FC5-B8EC58B548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0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E555-A7F0-4C30-8C9D-0710584867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4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15F7-053F-47BC-9EAA-B4DD17C8BC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1A1B-B995-49A2-BDDC-8D743DAF94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13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D388-C53A-44AD-93DE-F28838EED0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18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B096-81E7-41BD-9E58-1671F0B34F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22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 type="dt" idx="8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 type="ftr" idx="8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F70C-1487-48EA-B82B-628AF7CA3D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27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B06C-17DF-4380-A785-5075054A9B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4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998B-216D-4E9E-A39C-8E9F33F9B9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1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9233-65C0-4F0F-AA1C-1FC3BF92E9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6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88A5-B904-433A-B242-64FA6679D6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40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 type="dt" idx="9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B501-225E-4083-8CA0-B986B3CFB5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45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 type="dt" idx="9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00D1-9D4F-4EF3-8616-9E35924D35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49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 type="dt" idx="10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7547-3659-48BB-8BE6-338FF8CA0D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54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2B74-4A04-4B42-BA42-C7AB92DD5E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58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087F-2C1C-494E-8131-1F5F631FC9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63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49FB-66E1-4356-A661-F0061DF6C7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67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0F58-CD7A-4C34-A9EB-2E748ADCA4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633B-E0CC-4012-97A2-C1FAFDCABA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8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8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7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8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9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E018-2458-4526-A1BE-F5E8ED1E954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235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8E04-26B8-486C-9BCD-1CB395FFD9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8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15C2-5993-4CC8-865B-958E45E56D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2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CBD9-2D06-4B86-8FC6-123CD86E69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7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FE68-BB35-4B47-88C5-A8D0360AAE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52280" y="12240"/>
            <a:ext cx="7772400" cy="15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hapter 7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Proportions &amp; Similarit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10666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Bauhaus 93"/>
              </a:rPr>
              <a:t>Chapter 7 Study Guide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C    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D    A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    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    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(12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 = 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angle Proportionality Th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y each side by 12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3" name="Picture 4" descr=""/>
          <p:cNvPicPr/>
          <p:nvPr/>
        </p:nvPicPr>
        <p:blipFill>
          <a:blip r:embed="rId1"/>
          <a:stretch/>
        </p:blipFill>
        <p:spPr>
          <a:xfrm>
            <a:off x="2057400" y="0"/>
            <a:ext cx="4038480" cy="1973160"/>
          </a:xfrm>
          <a:prstGeom prst="rect">
            <a:avLst/>
          </a:prstGeom>
          <a:ln w="0">
            <a:noFill/>
          </a:ln>
        </p:spPr>
      </p:pic>
      <p:sp>
        <p:nvSpPr>
          <p:cNvPr id="1814" name="Line 8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5" name="Line 9"/>
          <p:cNvSpPr/>
          <p:nvPr/>
        </p:nvSpPr>
        <p:spPr>
          <a:xfrm>
            <a:off x="5029200" y="19051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6" name="Line 10"/>
          <p:cNvSpPr/>
          <p:nvPr/>
        </p:nvSpPr>
        <p:spPr>
          <a:xfrm>
            <a:off x="11430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Line 11"/>
          <p:cNvSpPr/>
          <p:nvPr/>
        </p:nvSpPr>
        <p:spPr>
          <a:xfrm>
            <a:off x="21337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Text Box 12"/>
          <p:cNvSpPr/>
          <p:nvPr/>
        </p:nvSpPr>
        <p:spPr>
          <a:xfrm>
            <a:off x="182880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9" name="Text Box 13"/>
          <p:cNvSpPr/>
          <p:nvPr/>
        </p:nvSpPr>
        <p:spPr>
          <a:xfrm>
            <a:off x="1828800" y="3886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0" name="Line 14"/>
          <p:cNvSpPr/>
          <p:nvPr/>
        </p:nvSpPr>
        <p:spPr>
          <a:xfrm>
            <a:off x="137160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1" name="Line 15"/>
          <p:cNvSpPr/>
          <p:nvPr/>
        </p:nvSpPr>
        <p:spPr>
          <a:xfrm>
            <a:off x="213372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2" name="Line 16"/>
          <p:cNvSpPr/>
          <p:nvPr/>
        </p:nvSpPr>
        <p:spPr>
          <a:xfrm>
            <a:off x="1143000" y="5105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3" name="Text Box 17"/>
          <p:cNvSpPr/>
          <p:nvPr/>
        </p:nvSpPr>
        <p:spPr>
          <a:xfrm>
            <a:off x="2209680" y="4876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4" name="Text Box 18"/>
          <p:cNvSpPr/>
          <p:nvPr/>
        </p:nvSpPr>
        <p:spPr>
          <a:xfrm>
            <a:off x="2666880" y="4800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5" name="Text Box 19"/>
          <p:cNvSpPr/>
          <p:nvPr/>
        </p:nvSpPr>
        <p:spPr>
          <a:xfrm>
            <a:off x="609480" y="6019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the length of EC is 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. 2:  Determining Parall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12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the diagram, determine whether M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 G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8" name="Picture 4" descr=""/>
          <p:cNvPicPr/>
          <p:nvPr/>
        </p:nvPicPr>
        <p:blipFill>
          <a:blip r:embed="rId1"/>
          <a:stretch/>
        </p:blipFill>
        <p:spPr>
          <a:xfrm>
            <a:off x="609480" y="3124080"/>
            <a:ext cx="4572000" cy="3399120"/>
          </a:xfrm>
          <a:prstGeom prst="rect">
            <a:avLst/>
          </a:prstGeom>
          <a:ln w="0">
            <a:noFill/>
          </a:ln>
        </p:spPr>
      </p:pic>
      <p:sp>
        <p:nvSpPr>
          <p:cNvPr id="1829" name="Text Box 5"/>
          <p:cNvSpPr/>
          <p:nvPr/>
        </p:nvSpPr>
        <p:spPr>
          <a:xfrm>
            <a:off x="5257800" y="2895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0" name="Text Box 6"/>
          <p:cNvSpPr/>
          <p:nvPr/>
        </p:nvSpPr>
        <p:spPr>
          <a:xfrm>
            <a:off x="5257800" y="3276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1" name="Text Box 7"/>
          <p:cNvSpPr/>
          <p:nvPr/>
        </p:nvSpPr>
        <p:spPr>
          <a:xfrm>
            <a:off x="6095880" y="2895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Text Box 8"/>
          <p:cNvSpPr/>
          <p:nvPr/>
        </p:nvSpPr>
        <p:spPr>
          <a:xfrm>
            <a:off x="6095880" y="3276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Line 9"/>
          <p:cNvSpPr/>
          <p:nvPr/>
        </p:nvSpPr>
        <p:spPr>
          <a:xfrm>
            <a:off x="52578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4" name="Text Box 10"/>
          <p:cNvSpPr/>
          <p:nvPr/>
        </p:nvSpPr>
        <p:spPr>
          <a:xfrm>
            <a:off x="563868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5" name="Line 11"/>
          <p:cNvSpPr/>
          <p:nvPr/>
        </p:nvSpPr>
        <p:spPr>
          <a:xfrm>
            <a:off x="61722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6" name="Text Box 12"/>
          <p:cNvSpPr/>
          <p:nvPr/>
        </p:nvSpPr>
        <p:spPr>
          <a:xfrm>
            <a:off x="7010280" y="2895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7" name="Text Box 13"/>
          <p:cNvSpPr/>
          <p:nvPr/>
        </p:nvSpPr>
        <p:spPr>
          <a:xfrm>
            <a:off x="7010280" y="3276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8" name="Text Box 14"/>
          <p:cNvSpPr/>
          <p:nvPr/>
        </p:nvSpPr>
        <p:spPr>
          <a:xfrm>
            <a:off x="655308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9" name="Line 15"/>
          <p:cNvSpPr/>
          <p:nvPr/>
        </p:nvSpPr>
        <p:spPr>
          <a:xfrm>
            <a:off x="70866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0" name="Text Box 16"/>
          <p:cNvSpPr/>
          <p:nvPr/>
        </p:nvSpPr>
        <p:spPr>
          <a:xfrm>
            <a:off x="541008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1" name="Text Box 17"/>
          <p:cNvSpPr/>
          <p:nvPr/>
        </p:nvSpPr>
        <p:spPr>
          <a:xfrm>
            <a:off x="5410080" y="4648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2" name="Text Box 18"/>
          <p:cNvSpPr/>
          <p:nvPr/>
        </p:nvSpPr>
        <p:spPr>
          <a:xfrm>
            <a:off x="62485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3" name="Text Box 19"/>
          <p:cNvSpPr/>
          <p:nvPr/>
        </p:nvSpPr>
        <p:spPr>
          <a:xfrm>
            <a:off x="6248520" y="4648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4" name="Line 20"/>
          <p:cNvSpPr/>
          <p:nvPr/>
        </p:nvSpPr>
        <p:spPr>
          <a:xfrm>
            <a:off x="541008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5" name="Text Box 21"/>
          <p:cNvSpPr/>
          <p:nvPr/>
        </p:nvSpPr>
        <p:spPr>
          <a:xfrm>
            <a:off x="5791320" y="4419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6" name="Line 22"/>
          <p:cNvSpPr/>
          <p:nvPr/>
        </p:nvSpPr>
        <p:spPr>
          <a:xfrm>
            <a:off x="632448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7" name="Text Box 23"/>
          <p:cNvSpPr/>
          <p:nvPr/>
        </p:nvSpPr>
        <p:spPr>
          <a:xfrm>
            <a:off x="71629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Text Box 24"/>
          <p:cNvSpPr/>
          <p:nvPr/>
        </p:nvSpPr>
        <p:spPr>
          <a:xfrm>
            <a:off x="7162920" y="4648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9" name="Text Box 25"/>
          <p:cNvSpPr/>
          <p:nvPr/>
        </p:nvSpPr>
        <p:spPr>
          <a:xfrm>
            <a:off x="6705720" y="4419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0" name="Line 26"/>
          <p:cNvSpPr/>
          <p:nvPr/>
        </p:nvSpPr>
        <p:spPr>
          <a:xfrm>
            <a:off x="723888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1" name="Text Box 29"/>
          <p:cNvSpPr/>
          <p:nvPr/>
        </p:nvSpPr>
        <p:spPr>
          <a:xfrm>
            <a:off x="6324480" y="5257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2" name="Text Box 30"/>
          <p:cNvSpPr/>
          <p:nvPr/>
        </p:nvSpPr>
        <p:spPr>
          <a:xfrm>
            <a:off x="6324480" y="5638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3" name="Line 33"/>
          <p:cNvSpPr/>
          <p:nvPr/>
        </p:nvSpPr>
        <p:spPr>
          <a:xfrm>
            <a:off x="640080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4" name="Text Box 34"/>
          <p:cNvSpPr/>
          <p:nvPr/>
        </p:nvSpPr>
        <p:spPr>
          <a:xfrm>
            <a:off x="7238880" y="5257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5" name="Text Box 35"/>
          <p:cNvSpPr/>
          <p:nvPr/>
        </p:nvSpPr>
        <p:spPr>
          <a:xfrm>
            <a:off x="7238880" y="5638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6" name="Text Box 36"/>
          <p:cNvSpPr/>
          <p:nvPr/>
        </p:nvSpPr>
        <p:spPr>
          <a:xfrm>
            <a:off x="6781680" y="54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7" name="Line 37"/>
          <p:cNvSpPr/>
          <p:nvPr/>
        </p:nvSpPr>
        <p:spPr>
          <a:xfrm>
            <a:off x="7315200" y="5638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8" name="Text Box 38"/>
          <p:cNvSpPr/>
          <p:nvPr/>
        </p:nvSpPr>
        <p:spPr>
          <a:xfrm>
            <a:off x="4876920" y="6019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N is not parallel to G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orem 8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16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ree parallel lines intersect two transversals, then they divide the transversals proportional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║ s and s║ t and l and m intersect, r, s, and t, th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1" name="Text Box 4"/>
          <p:cNvSpPr/>
          <p:nvPr/>
        </p:nvSpPr>
        <p:spPr>
          <a:xfrm>
            <a:off x="2438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2" name="Text Box 5"/>
          <p:cNvSpPr/>
          <p:nvPr/>
        </p:nvSpPr>
        <p:spPr>
          <a:xfrm>
            <a:off x="2514600" y="3657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3" name="Text Box 6"/>
          <p:cNvSpPr/>
          <p:nvPr/>
        </p:nvSpPr>
        <p:spPr>
          <a:xfrm>
            <a:off x="3352680" y="3276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4" name="Text Box 7"/>
          <p:cNvSpPr/>
          <p:nvPr/>
        </p:nvSpPr>
        <p:spPr>
          <a:xfrm>
            <a:off x="3352680" y="3657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5" name="Line 8"/>
          <p:cNvSpPr/>
          <p:nvPr/>
        </p:nvSpPr>
        <p:spPr>
          <a:xfrm>
            <a:off x="2514600" y="36576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6" name="Text Box 9"/>
          <p:cNvSpPr/>
          <p:nvPr/>
        </p:nvSpPr>
        <p:spPr>
          <a:xfrm>
            <a:off x="2895480" y="3429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7" name="Line 10"/>
          <p:cNvSpPr/>
          <p:nvPr/>
        </p:nvSpPr>
        <p:spPr>
          <a:xfrm>
            <a:off x="3429000" y="36576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8" name="Picture 15" descr=""/>
          <p:cNvPicPr/>
          <p:nvPr/>
        </p:nvPicPr>
        <p:blipFill>
          <a:blip r:embed="rId1"/>
          <a:stretch/>
        </p:blipFill>
        <p:spPr>
          <a:xfrm>
            <a:off x="2743200" y="3962520"/>
            <a:ext cx="4762440" cy="2381040"/>
          </a:xfrm>
          <a:prstGeom prst="rect">
            <a:avLst/>
          </a:prstGeom>
          <a:ln w="0">
            <a:noFill/>
          </a:ln>
        </p:spPr>
      </p:pic>
      <p:sp>
        <p:nvSpPr>
          <p:cNvPr id="1869" name="Line 16"/>
          <p:cNvSpPr/>
          <p:nvPr/>
        </p:nvSpPr>
        <p:spPr>
          <a:xfrm flipV="1">
            <a:off x="3581280" y="5333760"/>
            <a:ext cx="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0" name="Line 17"/>
          <p:cNvSpPr/>
          <p:nvPr/>
        </p:nvSpPr>
        <p:spPr>
          <a:xfrm flipV="1">
            <a:off x="4572000" y="5410080"/>
            <a:ext cx="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1" name="Line 18"/>
          <p:cNvSpPr/>
          <p:nvPr/>
        </p:nvSpPr>
        <p:spPr>
          <a:xfrm flipV="1">
            <a:off x="5638680" y="5486040"/>
            <a:ext cx="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orem 8.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ray bisects an angle of a triangle, then it divides the opposite side into segments whose lengths are proportional to the lengths of the other two si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D bisec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B, the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4" name="Text Box 5"/>
          <p:cNvSpPr/>
          <p:nvPr/>
        </p:nvSpPr>
        <p:spPr>
          <a:xfrm>
            <a:off x="55627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5" name="Text Box 6"/>
          <p:cNvSpPr/>
          <p:nvPr/>
        </p:nvSpPr>
        <p:spPr>
          <a:xfrm>
            <a:off x="5638680" y="3886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6" name="Text Box 7"/>
          <p:cNvSpPr/>
          <p:nvPr/>
        </p:nvSpPr>
        <p:spPr>
          <a:xfrm>
            <a:off x="6477120" y="3505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7" name="Text Box 8"/>
          <p:cNvSpPr/>
          <p:nvPr/>
        </p:nvSpPr>
        <p:spPr>
          <a:xfrm>
            <a:off x="6477120" y="3886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8" name="Line 9"/>
          <p:cNvSpPr/>
          <p:nvPr/>
        </p:nvSpPr>
        <p:spPr>
          <a:xfrm>
            <a:off x="5638680" y="38862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9" name="Text Box 10"/>
          <p:cNvSpPr/>
          <p:nvPr/>
        </p:nvSpPr>
        <p:spPr>
          <a:xfrm>
            <a:off x="6019920" y="3657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0" name="Line 11"/>
          <p:cNvSpPr/>
          <p:nvPr/>
        </p:nvSpPr>
        <p:spPr>
          <a:xfrm>
            <a:off x="6553080" y="38862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1" name="Picture 12" descr=""/>
          <p:cNvPicPr/>
          <p:nvPr/>
        </p:nvPicPr>
        <p:blipFill>
          <a:blip r:embed="rId1"/>
          <a:stretch/>
        </p:blipFill>
        <p:spPr>
          <a:xfrm>
            <a:off x="1905120" y="4114800"/>
            <a:ext cx="626724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. 3:  Using Proportionality Theor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53337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diagra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and PQ = 9, QR = 15, and ST = 11.  What is the length of TU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4" name="Picture 4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5026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OLUTION:  Because corresponding angles are congruent, the lines are parallel and you can use Theorem 8.6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6" name="Text Box 4"/>
          <p:cNvSpPr/>
          <p:nvPr/>
        </p:nvSpPr>
        <p:spPr>
          <a:xfrm>
            <a:off x="1066680" y="2362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Text Box 5"/>
          <p:cNvSpPr/>
          <p:nvPr/>
        </p:nvSpPr>
        <p:spPr>
          <a:xfrm>
            <a:off x="1143000" y="2743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Text Box 6"/>
          <p:cNvSpPr/>
          <p:nvPr/>
        </p:nvSpPr>
        <p:spPr>
          <a:xfrm>
            <a:off x="1981080" y="2362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Text Box 7"/>
          <p:cNvSpPr/>
          <p:nvPr/>
        </p:nvSpPr>
        <p:spPr>
          <a:xfrm>
            <a:off x="1981080" y="274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Line 8"/>
          <p:cNvSpPr/>
          <p:nvPr/>
        </p:nvSpPr>
        <p:spPr>
          <a:xfrm>
            <a:off x="1143000" y="27432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Text Box 9"/>
          <p:cNvSpPr/>
          <p:nvPr/>
        </p:nvSpPr>
        <p:spPr>
          <a:xfrm>
            <a:off x="152388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0"/>
          <p:cNvSpPr/>
          <p:nvPr/>
        </p:nvSpPr>
        <p:spPr>
          <a:xfrm>
            <a:off x="2057400" y="27432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Text Box 11"/>
          <p:cNvSpPr/>
          <p:nvPr/>
        </p:nvSpPr>
        <p:spPr>
          <a:xfrm>
            <a:off x="114300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Text Box 12"/>
          <p:cNvSpPr/>
          <p:nvPr/>
        </p:nvSpPr>
        <p:spPr>
          <a:xfrm>
            <a:off x="1219320" y="3733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Text Box 13"/>
          <p:cNvSpPr/>
          <p:nvPr/>
        </p:nvSpPr>
        <p:spPr>
          <a:xfrm>
            <a:off x="205740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Text Box 14"/>
          <p:cNvSpPr/>
          <p:nvPr/>
        </p:nvSpPr>
        <p:spPr>
          <a:xfrm>
            <a:off x="205740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5"/>
          <p:cNvSpPr/>
          <p:nvPr/>
        </p:nvSpPr>
        <p:spPr>
          <a:xfrm>
            <a:off x="1219320" y="37339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Text Box 16"/>
          <p:cNvSpPr/>
          <p:nvPr/>
        </p:nvSpPr>
        <p:spPr>
          <a:xfrm>
            <a:off x="1600200" y="3505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7"/>
          <p:cNvSpPr/>
          <p:nvPr/>
        </p:nvSpPr>
        <p:spPr>
          <a:xfrm>
            <a:off x="2133720" y="37339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Text Box 18"/>
          <p:cNvSpPr/>
          <p:nvPr/>
        </p:nvSpPr>
        <p:spPr>
          <a:xfrm>
            <a:off x="457200" y="4419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● TU = 15 ● 11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Cross Product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Text Box 19"/>
          <p:cNvSpPr/>
          <p:nvPr/>
        </p:nvSpPr>
        <p:spPr>
          <a:xfrm>
            <a:off x="1600200" y="5105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5(1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Text Box 20"/>
          <p:cNvSpPr/>
          <p:nvPr/>
        </p:nvSpPr>
        <p:spPr>
          <a:xfrm>
            <a:off x="1981080" y="5486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Text Box 21"/>
          <p:cNvSpPr/>
          <p:nvPr/>
        </p:nvSpPr>
        <p:spPr>
          <a:xfrm>
            <a:off x="281952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Text Box 22"/>
          <p:cNvSpPr/>
          <p:nvPr/>
        </p:nvSpPr>
        <p:spPr>
          <a:xfrm>
            <a:off x="2819520" y="5486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3"/>
          <p:cNvSpPr/>
          <p:nvPr/>
        </p:nvSpPr>
        <p:spPr>
          <a:xfrm>
            <a:off x="1676520" y="5486400"/>
            <a:ext cx="761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Text Box 24"/>
          <p:cNvSpPr/>
          <p:nvPr/>
        </p:nvSpPr>
        <p:spPr>
          <a:xfrm>
            <a:off x="2362320" y="5257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5"/>
          <p:cNvSpPr/>
          <p:nvPr/>
        </p:nvSpPr>
        <p:spPr>
          <a:xfrm>
            <a:off x="2895480" y="54864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Text Box 26"/>
          <p:cNvSpPr/>
          <p:nvPr/>
        </p:nvSpPr>
        <p:spPr>
          <a:xfrm>
            <a:off x="685800" y="5257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Text Box 27"/>
          <p:cNvSpPr/>
          <p:nvPr/>
        </p:nvSpPr>
        <p:spPr>
          <a:xfrm>
            <a:off x="1371600" y="5257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Text Box 28"/>
          <p:cNvSpPr/>
          <p:nvPr/>
        </p:nvSpPr>
        <p:spPr>
          <a:xfrm>
            <a:off x="2971800" y="24382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arallel lines divide transversals proportionall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Text Box 29"/>
          <p:cNvSpPr/>
          <p:nvPr/>
        </p:nvSpPr>
        <p:spPr>
          <a:xfrm>
            <a:off x="2971800" y="3505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ubstit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Text Box 30"/>
          <p:cNvSpPr/>
          <p:nvPr/>
        </p:nvSpPr>
        <p:spPr>
          <a:xfrm>
            <a:off x="3581280" y="52578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ivide each side by 9 and simplif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Text Box 31"/>
          <p:cNvSpPr/>
          <p:nvPr/>
        </p:nvSpPr>
        <p:spPr>
          <a:xfrm>
            <a:off x="457200" y="6019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o, the length of TU is 55/3 or 18 1/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. 4:  Using the Proportionality Theor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diagram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B.  Use the given side lengths to find the length of D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6" name="Picture 4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922032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7" name="Picture 4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9220320" cy="5413320"/>
          </a:xfrm>
          <a:prstGeom prst="rect">
            <a:avLst/>
          </a:prstGeom>
          <a:ln w="0">
            <a:noFill/>
          </a:ln>
        </p:spPr>
      </p:pic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tion: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3428640" y="213372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AD is an angle bisector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, you can apply Theorem 8.7.  Let x = DC.  Then BD = 14 – 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Text Box 5"/>
          <p:cNvSpPr/>
          <p:nvPr/>
        </p:nvSpPr>
        <p:spPr>
          <a:xfrm>
            <a:off x="388620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Text Box 6"/>
          <p:cNvSpPr/>
          <p:nvPr/>
        </p:nvSpPr>
        <p:spPr>
          <a:xfrm>
            <a:off x="3962520" y="4419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Text Box 7"/>
          <p:cNvSpPr/>
          <p:nvPr/>
        </p:nvSpPr>
        <p:spPr>
          <a:xfrm>
            <a:off x="4800600" y="4038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3" name="Text Box 8"/>
          <p:cNvSpPr/>
          <p:nvPr/>
        </p:nvSpPr>
        <p:spPr>
          <a:xfrm>
            <a:off x="480060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4" name="Line 9"/>
          <p:cNvSpPr/>
          <p:nvPr/>
        </p:nvSpPr>
        <p:spPr>
          <a:xfrm>
            <a:off x="3962520" y="44197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Text Box 10"/>
          <p:cNvSpPr/>
          <p:nvPr/>
        </p:nvSpPr>
        <p:spPr>
          <a:xfrm>
            <a:off x="4343400" y="4191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6" name="Line 11"/>
          <p:cNvSpPr/>
          <p:nvPr/>
        </p:nvSpPr>
        <p:spPr>
          <a:xfrm>
            <a:off x="4876920" y="44197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7" name="Text Box 12"/>
          <p:cNvSpPr/>
          <p:nvPr/>
        </p:nvSpPr>
        <p:spPr>
          <a:xfrm>
            <a:off x="3886200" y="5181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8" name="Text Box 13"/>
          <p:cNvSpPr/>
          <p:nvPr/>
        </p:nvSpPr>
        <p:spPr>
          <a:xfrm>
            <a:off x="3962520" y="5562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9" name="Text Box 14"/>
          <p:cNvSpPr/>
          <p:nvPr/>
        </p:nvSpPr>
        <p:spPr>
          <a:xfrm>
            <a:off x="4800600" y="5181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4-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Text Box 15"/>
          <p:cNvSpPr/>
          <p:nvPr/>
        </p:nvSpPr>
        <p:spPr>
          <a:xfrm>
            <a:off x="4800600" y="5562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Line 16"/>
          <p:cNvSpPr/>
          <p:nvPr/>
        </p:nvSpPr>
        <p:spPr>
          <a:xfrm>
            <a:off x="3962520" y="55627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2" name="Text Box 17"/>
          <p:cNvSpPr/>
          <p:nvPr/>
        </p:nvSpPr>
        <p:spPr>
          <a:xfrm>
            <a:off x="4343400" y="5334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3" name="Line 18"/>
          <p:cNvSpPr/>
          <p:nvPr/>
        </p:nvSpPr>
        <p:spPr>
          <a:xfrm>
            <a:off x="4876920" y="55627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4" name="Text Box 19"/>
          <p:cNvSpPr/>
          <p:nvPr/>
        </p:nvSpPr>
        <p:spPr>
          <a:xfrm>
            <a:off x="5638680" y="41911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Apply Thm. 8.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5" name="Text Box 20"/>
          <p:cNvSpPr/>
          <p:nvPr/>
        </p:nvSpPr>
        <p:spPr>
          <a:xfrm>
            <a:off x="5638680" y="52578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ubstitu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. 4 Continued . . 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7" name="Text Box 4"/>
          <p:cNvSpPr/>
          <p:nvPr/>
        </p:nvSpPr>
        <p:spPr>
          <a:xfrm>
            <a:off x="380880" y="2514600"/>
            <a:ext cx="3962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● x = 15 (14 – 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9x = 210 – 15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24x= 2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= 8.7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8" name="Text Box 5"/>
          <p:cNvSpPr/>
          <p:nvPr/>
        </p:nvSpPr>
        <p:spPr>
          <a:xfrm>
            <a:off x="3809880" y="2590920"/>
            <a:ext cx="3962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  <a:ea typeface="Tahoma"/>
              </a:rPr>
              <a:t>Cross product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  <a:ea typeface="Tahoma"/>
              </a:rPr>
              <a:t>Distributive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  <a:ea typeface="Tahoma"/>
              </a:rPr>
              <a:t>Add 15x to each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  <a:ea typeface="Tahoma"/>
              </a:rPr>
              <a:t>Divide each side by 2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9" name="Text Box 7"/>
          <p:cNvSpPr/>
          <p:nvPr/>
        </p:nvSpPr>
        <p:spPr>
          <a:xfrm>
            <a:off x="762120" y="5257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o, the length of DC is 8.75 uni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ding Segment Lengt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diagram K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║ MN.  Find the values of the vari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2" name="Picture 4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8006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. 1:  Writing Proportionality Statem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diagram, 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∆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TW ~ 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∆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 Unicode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rite the statement of proportion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6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57640" cy="3733920"/>
          </a:xfrm>
          <a:prstGeom prst="rect">
            <a:avLst/>
          </a:prstGeom>
          <a:ln w="0">
            <a:noFill/>
          </a:ln>
        </p:spPr>
      </p:pic>
      <p:sp>
        <p:nvSpPr>
          <p:cNvPr id="1727" name="Text Box 5"/>
          <p:cNvSpPr/>
          <p:nvPr/>
        </p:nvSpPr>
        <p:spPr>
          <a:xfrm>
            <a:off x="61722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79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8" name="Text Box 6"/>
          <p:cNvSpPr/>
          <p:nvPr/>
        </p:nvSpPr>
        <p:spPr>
          <a:xfrm>
            <a:off x="7086600" y="213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34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9" name="Line 7"/>
          <p:cNvSpPr/>
          <p:nvPr/>
        </p:nvSpPr>
        <p:spPr>
          <a:xfrm flipH="1">
            <a:off x="6705720" y="22860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0" name="Text Box 8"/>
          <p:cNvSpPr/>
          <p:nvPr/>
        </p:nvSpPr>
        <p:spPr>
          <a:xfrm>
            <a:off x="68580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1" name="Text Box 9"/>
          <p:cNvSpPr/>
          <p:nvPr/>
        </p:nvSpPr>
        <p:spPr>
          <a:xfrm>
            <a:off x="68580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2" name="Text Box 10"/>
          <p:cNvSpPr/>
          <p:nvPr/>
        </p:nvSpPr>
        <p:spPr>
          <a:xfrm>
            <a:off x="137160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3" name="Text Box 11"/>
          <p:cNvSpPr/>
          <p:nvPr/>
        </p:nvSpPr>
        <p:spPr>
          <a:xfrm>
            <a:off x="1371600" y="43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4" name="Text Box 12"/>
          <p:cNvSpPr/>
          <p:nvPr/>
        </p:nvSpPr>
        <p:spPr>
          <a:xfrm>
            <a:off x="2133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Text Box 13"/>
          <p:cNvSpPr/>
          <p:nvPr/>
        </p:nvSpPr>
        <p:spPr>
          <a:xfrm>
            <a:off x="2133720" y="43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Text Box 14"/>
          <p:cNvSpPr/>
          <p:nvPr/>
        </p:nvSpPr>
        <p:spPr>
          <a:xfrm>
            <a:off x="1143000" y="4114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Line 15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Line 16"/>
          <p:cNvSpPr/>
          <p:nvPr/>
        </p:nvSpPr>
        <p:spPr>
          <a:xfrm>
            <a:off x="144792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Text Box 17"/>
          <p:cNvSpPr/>
          <p:nvPr/>
        </p:nvSpPr>
        <p:spPr>
          <a:xfrm>
            <a:off x="19051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Line 18"/>
          <p:cNvSpPr/>
          <p:nvPr/>
        </p:nvSpPr>
        <p:spPr>
          <a:xfrm>
            <a:off x="220968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ind the value of x, you can set up a propor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5" name="Picture 4" descr=""/>
          <p:cNvPicPr/>
          <p:nvPr/>
        </p:nvPicPr>
        <p:blipFill>
          <a:blip r:embed="rId1"/>
          <a:stretch/>
        </p:blipFill>
        <p:spPr>
          <a:xfrm>
            <a:off x="5867280" y="0"/>
            <a:ext cx="2971800" cy="1859040"/>
          </a:xfrm>
          <a:prstGeom prst="rect">
            <a:avLst/>
          </a:prstGeom>
          <a:ln w="0">
            <a:noFill/>
          </a:ln>
        </p:spPr>
      </p:pic>
      <p:sp>
        <p:nvSpPr>
          <p:cNvPr id="1946" name="Text Box 5"/>
          <p:cNvSpPr/>
          <p:nvPr/>
        </p:nvSpPr>
        <p:spPr>
          <a:xfrm>
            <a:off x="205740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7" name="Text Box 6"/>
          <p:cNvSpPr/>
          <p:nvPr/>
        </p:nvSpPr>
        <p:spPr>
          <a:xfrm>
            <a:off x="1981080" y="35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3.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8" name="Text Box 7"/>
          <p:cNvSpPr/>
          <p:nvPr/>
        </p:nvSpPr>
        <p:spPr>
          <a:xfrm>
            <a:off x="2971800" y="3200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7.5 - 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9" name="Text Box 8"/>
          <p:cNvSpPr/>
          <p:nvPr/>
        </p:nvSpPr>
        <p:spPr>
          <a:xfrm>
            <a:off x="320040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9"/>
          <p:cNvSpPr/>
          <p:nvPr/>
        </p:nvSpPr>
        <p:spPr>
          <a:xfrm>
            <a:off x="2133720" y="358128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Text Box 10"/>
          <p:cNvSpPr/>
          <p:nvPr/>
        </p:nvSpPr>
        <p:spPr>
          <a:xfrm>
            <a:off x="251460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11"/>
          <p:cNvSpPr/>
          <p:nvPr/>
        </p:nvSpPr>
        <p:spPr>
          <a:xfrm>
            <a:off x="30481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3" name="Text Box 12"/>
          <p:cNvSpPr/>
          <p:nvPr/>
        </p:nvSpPr>
        <p:spPr>
          <a:xfrm>
            <a:off x="533520" y="3962520"/>
            <a:ext cx="41907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3.5(37.5 – x) = 9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6.25 – 13.5x = 9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6.25 = 22.5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.5 =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Text Box 13"/>
          <p:cNvSpPr/>
          <p:nvPr/>
        </p:nvSpPr>
        <p:spPr>
          <a:xfrm>
            <a:off x="4572000" y="3429000"/>
            <a:ext cx="4343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Write the prop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Cross product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Distributive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Add 13.5x to each si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Divide each side by 2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5" name="Text Box 14"/>
          <p:cNvSpPr/>
          <p:nvPr/>
        </p:nvSpPr>
        <p:spPr>
          <a:xfrm>
            <a:off x="304920" y="6019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K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║MN,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∆JK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~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∆JMN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6" name="Text Box 15"/>
          <p:cNvSpPr/>
          <p:nvPr/>
        </p:nvSpPr>
        <p:spPr>
          <a:xfrm>
            <a:off x="5334120" y="6110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Text Box 16"/>
          <p:cNvSpPr/>
          <p:nvPr/>
        </p:nvSpPr>
        <p:spPr>
          <a:xfrm>
            <a:off x="5410080" y="64911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8" name="Text Box 17"/>
          <p:cNvSpPr/>
          <p:nvPr/>
        </p:nvSpPr>
        <p:spPr>
          <a:xfrm>
            <a:off x="6248520" y="6110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9" name="Text Box 18"/>
          <p:cNvSpPr/>
          <p:nvPr/>
        </p:nvSpPr>
        <p:spPr>
          <a:xfrm>
            <a:off x="6248520" y="6491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0" name="Line 19"/>
          <p:cNvSpPr/>
          <p:nvPr/>
        </p:nvSpPr>
        <p:spPr>
          <a:xfrm>
            <a:off x="5410080" y="649116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Text Box 20"/>
          <p:cNvSpPr/>
          <p:nvPr/>
        </p:nvSpPr>
        <p:spPr>
          <a:xfrm>
            <a:off x="5791320" y="62625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Line 21"/>
          <p:cNvSpPr/>
          <p:nvPr/>
        </p:nvSpPr>
        <p:spPr>
          <a:xfrm>
            <a:off x="6324480" y="649116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ind the value of y, you can set up a propor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5" name="Picture 4" descr=""/>
          <p:cNvPicPr/>
          <p:nvPr/>
        </p:nvPicPr>
        <p:blipFill>
          <a:blip r:embed="rId1"/>
          <a:stretch/>
        </p:blipFill>
        <p:spPr>
          <a:xfrm>
            <a:off x="5867280" y="0"/>
            <a:ext cx="2971800" cy="1859040"/>
          </a:xfrm>
          <a:prstGeom prst="rect">
            <a:avLst/>
          </a:prstGeom>
          <a:ln w="0">
            <a:noFill/>
          </a:ln>
        </p:spPr>
      </p:pic>
      <p:sp>
        <p:nvSpPr>
          <p:cNvPr id="1966" name="Text Box 5"/>
          <p:cNvSpPr/>
          <p:nvPr/>
        </p:nvSpPr>
        <p:spPr>
          <a:xfrm>
            <a:off x="205740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Text Box 6"/>
          <p:cNvSpPr/>
          <p:nvPr/>
        </p:nvSpPr>
        <p:spPr>
          <a:xfrm>
            <a:off x="1523880" y="3581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3.5 + 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Text Box 7"/>
          <p:cNvSpPr/>
          <p:nvPr/>
        </p:nvSpPr>
        <p:spPr>
          <a:xfrm>
            <a:off x="2971800" y="3200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.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Text Box 8"/>
          <p:cNvSpPr/>
          <p:nvPr/>
        </p:nvSpPr>
        <p:spPr>
          <a:xfrm>
            <a:off x="320040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0" name="Line 9"/>
          <p:cNvSpPr/>
          <p:nvPr/>
        </p:nvSpPr>
        <p:spPr>
          <a:xfrm>
            <a:off x="1523880" y="3581280"/>
            <a:ext cx="1067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Text Box 10"/>
          <p:cNvSpPr/>
          <p:nvPr/>
        </p:nvSpPr>
        <p:spPr>
          <a:xfrm>
            <a:off x="251460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Line 11"/>
          <p:cNvSpPr/>
          <p:nvPr/>
        </p:nvSpPr>
        <p:spPr>
          <a:xfrm>
            <a:off x="30481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Text Box 12"/>
          <p:cNvSpPr/>
          <p:nvPr/>
        </p:nvSpPr>
        <p:spPr>
          <a:xfrm>
            <a:off x="533520" y="3962520"/>
            <a:ext cx="4190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y = 7.5(22.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= 18.7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4" name="Text Box 13"/>
          <p:cNvSpPr/>
          <p:nvPr/>
        </p:nvSpPr>
        <p:spPr>
          <a:xfrm>
            <a:off x="4572000" y="3429000"/>
            <a:ext cx="4343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Write the prop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Cross product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Divide each side by 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. 1:  Writing Proportionality Statem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diagram, 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∆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TW ~ 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∆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 Unicode MS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 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C, SO 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EC = 7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3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57640" cy="3733920"/>
          </a:xfrm>
          <a:prstGeom prst="rect">
            <a:avLst/>
          </a:prstGeom>
          <a:ln w="0">
            <a:noFill/>
          </a:ln>
        </p:spPr>
      </p:pic>
      <p:sp>
        <p:nvSpPr>
          <p:cNvPr id="1744" name="Text Box 5"/>
          <p:cNvSpPr/>
          <p:nvPr/>
        </p:nvSpPr>
        <p:spPr>
          <a:xfrm>
            <a:off x="61722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79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Text Box 6"/>
          <p:cNvSpPr/>
          <p:nvPr/>
        </p:nvSpPr>
        <p:spPr>
          <a:xfrm>
            <a:off x="7086600" y="213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34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7"/>
          <p:cNvSpPr/>
          <p:nvPr/>
        </p:nvSpPr>
        <p:spPr>
          <a:xfrm flipH="1">
            <a:off x="6705720" y="22860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. 1:  Writing Proportionality Statem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8862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diagram,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∆BTW ~ ∆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 Unicode MS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d ET and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9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57640" cy="3733920"/>
          </a:xfrm>
          <a:prstGeom prst="rect">
            <a:avLst/>
          </a:prstGeom>
          <a:ln w="0">
            <a:noFill/>
          </a:ln>
        </p:spPr>
      </p:pic>
      <p:sp>
        <p:nvSpPr>
          <p:cNvPr id="1750" name="Text Box 5"/>
          <p:cNvSpPr/>
          <p:nvPr/>
        </p:nvSpPr>
        <p:spPr>
          <a:xfrm>
            <a:off x="61722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79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Text Box 6"/>
          <p:cNvSpPr/>
          <p:nvPr/>
        </p:nvSpPr>
        <p:spPr>
          <a:xfrm>
            <a:off x="7086600" y="213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34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7"/>
          <p:cNvSpPr/>
          <p:nvPr/>
        </p:nvSpPr>
        <p:spPr>
          <a:xfrm flipH="1">
            <a:off x="6705720" y="22860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Text Box 8"/>
          <p:cNvSpPr/>
          <p:nvPr/>
        </p:nvSpPr>
        <p:spPr>
          <a:xfrm>
            <a:off x="457200" y="2895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Text Box 9"/>
          <p:cNvSpPr/>
          <p:nvPr/>
        </p:nvSpPr>
        <p:spPr>
          <a:xfrm>
            <a:off x="45720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Text Box 10"/>
          <p:cNvSpPr/>
          <p:nvPr/>
        </p:nvSpPr>
        <p:spPr>
          <a:xfrm>
            <a:off x="1219320" y="2895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Text Box 11"/>
          <p:cNvSpPr/>
          <p:nvPr/>
        </p:nvSpPr>
        <p:spPr>
          <a:xfrm>
            <a:off x="1219320" y="3200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Text Box 12"/>
          <p:cNvSpPr/>
          <p:nvPr/>
        </p:nvSpPr>
        <p:spPr>
          <a:xfrm>
            <a:off x="9144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13"/>
          <p:cNvSpPr/>
          <p:nvPr/>
        </p:nvSpPr>
        <p:spPr>
          <a:xfrm>
            <a:off x="45720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15"/>
          <p:cNvSpPr/>
          <p:nvPr/>
        </p:nvSpPr>
        <p:spPr>
          <a:xfrm>
            <a:off x="121932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Text Box 16"/>
          <p:cNvSpPr/>
          <p:nvPr/>
        </p:nvSpPr>
        <p:spPr>
          <a:xfrm>
            <a:off x="457200" y="3657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Text Box 17"/>
          <p:cNvSpPr/>
          <p:nvPr/>
        </p:nvSpPr>
        <p:spPr>
          <a:xfrm>
            <a:off x="457200" y="3962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Text Box 18"/>
          <p:cNvSpPr/>
          <p:nvPr/>
        </p:nvSpPr>
        <p:spPr>
          <a:xfrm>
            <a:off x="1219320" y="3657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Text Box 19"/>
          <p:cNvSpPr/>
          <p:nvPr/>
        </p:nvSpPr>
        <p:spPr>
          <a:xfrm>
            <a:off x="12193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Text Box 20"/>
          <p:cNvSpPr/>
          <p:nvPr/>
        </p:nvSpPr>
        <p:spPr>
          <a:xfrm>
            <a:off x="914400" y="3809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21"/>
          <p:cNvSpPr/>
          <p:nvPr/>
        </p:nvSpPr>
        <p:spPr>
          <a:xfrm>
            <a:off x="45720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22"/>
          <p:cNvSpPr/>
          <p:nvPr/>
        </p:nvSpPr>
        <p:spPr>
          <a:xfrm>
            <a:off x="1219320" y="396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Text Box 23"/>
          <p:cNvSpPr/>
          <p:nvPr/>
        </p:nvSpPr>
        <p:spPr>
          <a:xfrm>
            <a:off x="304920" y="4419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(2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Text Box 24"/>
          <p:cNvSpPr/>
          <p:nvPr/>
        </p:nvSpPr>
        <p:spPr>
          <a:xfrm>
            <a:off x="45720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Text Box 25"/>
          <p:cNvSpPr/>
          <p:nvPr/>
        </p:nvSpPr>
        <p:spPr>
          <a:xfrm>
            <a:off x="91440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Line 26"/>
          <p:cNvSpPr/>
          <p:nvPr/>
        </p:nvSpPr>
        <p:spPr>
          <a:xfrm>
            <a:off x="4572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Text Box 27"/>
          <p:cNvSpPr/>
          <p:nvPr/>
        </p:nvSpPr>
        <p:spPr>
          <a:xfrm>
            <a:off x="1219320" y="4495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Text Box 28"/>
          <p:cNvSpPr/>
          <p:nvPr/>
        </p:nvSpPr>
        <p:spPr>
          <a:xfrm>
            <a:off x="1295280" y="5105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3" name="Text Box 29"/>
          <p:cNvSpPr/>
          <p:nvPr/>
        </p:nvSpPr>
        <p:spPr>
          <a:xfrm>
            <a:off x="1066680" y="5105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4" name="Text Box 30"/>
          <p:cNvSpPr/>
          <p:nvPr/>
        </p:nvSpPr>
        <p:spPr>
          <a:xfrm>
            <a:off x="5335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5" name="Text Box 31"/>
          <p:cNvSpPr/>
          <p:nvPr/>
        </p:nvSpPr>
        <p:spPr>
          <a:xfrm>
            <a:off x="1981080" y="29718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Write propor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6" name="Text Box 32"/>
          <p:cNvSpPr/>
          <p:nvPr/>
        </p:nvSpPr>
        <p:spPr>
          <a:xfrm>
            <a:off x="1981080" y="37339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ubstitute valu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7" name="Text Box 33"/>
          <p:cNvSpPr/>
          <p:nvPr/>
        </p:nvSpPr>
        <p:spPr>
          <a:xfrm>
            <a:off x="1981080" y="44956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Multiply each side by 2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8" name="Text Box 34"/>
          <p:cNvSpPr/>
          <p:nvPr/>
        </p:nvSpPr>
        <p:spPr>
          <a:xfrm>
            <a:off x="1981080" y="51055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implif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9" name="Text Box 35"/>
          <p:cNvSpPr/>
          <p:nvPr/>
        </p:nvSpPr>
        <p:spPr>
          <a:xfrm>
            <a:off x="762120" y="55627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Because BE = BT – ET, BE = 20 – 5 = 15.  So, ET is 5 units and BE is 15 uni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/Assign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proportionality theorems to calculate segment length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 Proportionality Theor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is lesson, you will study four proportionality theorems.  Similar triangles are used to prove each theorem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orems 8.4  Triangle Proportionality Theor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85" name="Picture 4" descr=""/>
          <p:cNvPicPr/>
          <p:nvPr/>
        </p:nvPicPr>
        <p:blipFill>
          <a:blip r:embed="rId1"/>
          <a:stretch/>
        </p:blipFill>
        <p:spPr>
          <a:xfrm>
            <a:off x="4876920" y="2133720"/>
            <a:ext cx="3886200" cy="2616120"/>
          </a:xfrm>
          <a:prstGeom prst="rect">
            <a:avLst/>
          </a:prstGeom>
          <a:ln w="0">
            <a:noFill/>
          </a:ln>
        </p:spPr>
      </p:pic>
      <p:sp>
        <p:nvSpPr>
          <p:cNvPr id="1786" name="Text Box 5"/>
          <p:cNvSpPr/>
          <p:nvPr/>
        </p:nvSpPr>
        <p:spPr>
          <a:xfrm>
            <a:off x="304920" y="2590920"/>
            <a:ext cx="39621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line parallel to one side of a triangle intersects the other two sides, then it divides the two side proportional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║ QS, 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Text Box 6"/>
          <p:cNvSpPr/>
          <p:nvPr/>
        </p:nvSpPr>
        <p:spPr>
          <a:xfrm>
            <a:off x="2743200" y="4952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8" name="Text Box 7"/>
          <p:cNvSpPr/>
          <p:nvPr/>
        </p:nvSpPr>
        <p:spPr>
          <a:xfrm>
            <a:off x="2743200" y="5334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9" name="Text Box 8"/>
          <p:cNvSpPr/>
          <p:nvPr/>
        </p:nvSpPr>
        <p:spPr>
          <a:xfrm>
            <a:off x="3581280" y="4952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0" name="Text Box 9"/>
          <p:cNvSpPr/>
          <p:nvPr/>
        </p:nvSpPr>
        <p:spPr>
          <a:xfrm>
            <a:off x="3581280" y="5334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1" name="Line 10"/>
          <p:cNvSpPr/>
          <p:nvPr/>
        </p:nvSpPr>
        <p:spPr>
          <a:xfrm>
            <a:off x="27432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2" name="Text Box 11"/>
          <p:cNvSpPr/>
          <p:nvPr/>
        </p:nvSpPr>
        <p:spPr>
          <a:xfrm>
            <a:off x="3124080" y="5105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3" name="Line 12"/>
          <p:cNvSpPr/>
          <p:nvPr/>
        </p:nvSpPr>
        <p:spPr>
          <a:xfrm>
            <a:off x="36576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Line 13"/>
          <p:cNvSpPr/>
          <p:nvPr/>
        </p:nvSpPr>
        <p:spPr>
          <a:xfrm flipV="1">
            <a:off x="5181480" y="34286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5" name="Line 14"/>
          <p:cNvSpPr/>
          <p:nvPr/>
        </p:nvSpPr>
        <p:spPr>
          <a:xfrm flipV="1">
            <a:off x="5791320" y="34286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orems 8.5  Converse of the Triangle Proportionality Theor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7" name="Picture 3" descr=""/>
          <p:cNvPicPr/>
          <p:nvPr/>
        </p:nvPicPr>
        <p:blipFill>
          <a:blip r:embed="rId1"/>
          <a:stretch/>
        </p:blipFill>
        <p:spPr>
          <a:xfrm>
            <a:off x="4876920" y="2133720"/>
            <a:ext cx="3886200" cy="2616120"/>
          </a:xfrm>
          <a:prstGeom prst="rect">
            <a:avLst/>
          </a:prstGeom>
          <a:ln w="0">
            <a:noFill/>
          </a:ln>
        </p:spPr>
      </p:pic>
      <p:sp>
        <p:nvSpPr>
          <p:cNvPr id="1798" name="Text Box 4"/>
          <p:cNvSpPr/>
          <p:nvPr/>
        </p:nvSpPr>
        <p:spPr>
          <a:xfrm>
            <a:off x="304920" y="2362320"/>
            <a:ext cx="39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line divides two sides of a triangle proportionally, then it is parallel to the third si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9" name="Text Box 5"/>
          <p:cNvSpPr/>
          <p:nvPr/>
        </p:nvSpPr>
        <p:spPr>
          <a:xfrm>
            <a:off x="2743200" y="4952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0" name="Text Box 6"/>
          <p:cNvSpPr/>
          <p:nvPr/>
        </p:nvSpPr>
        <p:spPr>
          <a:xfrm>
            <a:off x="2743200" y="5334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1" name="Text Box 7"/>
          <p:cNvSpPr/>
          <p:nvPr/>
        </p:nvSpPr>
        <p:spPr>
          <a:xfrm>
            <a:off x="3581280" y="4952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2" name="Text Box 8"/>
          <p:cNvSpPr/>
          <p:nvPr/>
        </p:nvSpPr>
        <p:spPr>
          <a:xfrm>
            <a:off x="3581280" y="5334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3" name="Line 9"/>
          <p:cNvSpPr/>
          <p:nvPr/>
        </p:nvSpPr>
        <p:spPr>
          <a:xfrm>
            <a:off x="27432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4" name="Text Box 10"/>
          <p:cNvSpPr/>
          <p:nvPr/>
        </p:nvSpPr>
        <p:spPr>
          <a:xfrm>
            <a:off x="3124080" y="5105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5" name="Line 11"/>
          <p:cNvSpPr/>
          <p:nvPr/>
        </p:nvSpPr>
        <p:spPr>
          <a:xfrm>
            <a:off x="36576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6" name="Text Box 14"/>
          <p:cNvSpPr/>
          <p:nvPr/>
        </p:nvSpPr>
        <p:spPr>
          <a:xfrm>
            <a:off x="1371600" y="5029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7" name="Text Box 15"/>
          <p:cNvSpPr/>
          <p:nvPr/>
        </p:nvSpPr>
        <p:spPr>
          <a:xfrm>
            <a:off x="4343400" y="5029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n T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║ Q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. 1:  Finding the length of a seg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6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diagram A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║ ED, BD = 8, DC = 4, and AE = 12.  What is the length of EC?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0" name="Picture 4" descr=""/>
          <p:cNvPicPr/>
          <p:nvPr/>
        </p:nvPicPr>
        <p:blipFill>
          <a:blip r:embed="rId1"/>
          <a:stretch/>
        </p:blipFill>
        <p:spPr>
          <a:xfrm>
            <a:off x="1981080" y="3581280"/>
            <a:ext cx="647712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17:55:03Z</dcterms:created>
  <dc:creator>patspitz</dc:creator>
  <dc:description/>
  <dc:language>en-US</dc:language>
  <cp:lastModifiedBy>Cynthia</cp:lastModifiedBy>
  <dcterms:modified xsi:type="dcterms:W3CDTF">2015-01-19T16:43:13Z</dcterms:modified>
  <cp:revision>18</cp:revision>
  <dc:subject/>
  <dc:title>8.6 Proportions &amp; Similar Triangles</dc:title>
</cp:coreProperties>
</file>